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6F7-4C9D-4568-8612-EAD4C267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EF8-624E-4169-A2E4-6B58A0C4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DEC-F7C2-4878-A25D-43E9E8FB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6C9-56EB-4BDB-A0C7-EE870880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4C04-3235-49F8-A39B-D29C7AFA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0FA8-A984-4B08-BC92-1AAFBB59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7508-7A51-420F-B9CA-D9C3249F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C78F-ED6D-4DBC-8715-89F54871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794A-5C60-4A2E-8701-1BD73E0A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F3D1-6862-4D1C-8562-27F0F3BD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173-3116-473B-BBBE-49D83A5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F3D-DA0F-4CCA-89B1-15CAD6C5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77D-85F5-49FC-8C30-17C5E107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2D7C-FF7E-4E0A-AAB7-6975088C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635A-06DB-4EA4-AD67-F10A564A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C71A-E490-4672-BFC8-05185A31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C6F8-5FCD-4C68-A674-C5D3C9F2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101-E2FA-4A41-98B0-B23E9A2A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885-8D71-400C-B775-D9051425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D7A-54CD-4372-816C-7D2BE385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C08-C711-43FF-8A77-0DB30B68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9F9-83AB-427C-8DEA-CCC98AC0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C2A-807B-49CB-8DAC-03A8D7D4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835-3913-4E5C-B45D-6B0F529C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8319-E0B6-4AF3-824D-33EDA3A6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B8A0-10AA-496B-A0D8-B3A7CA463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2215080" y="126216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187280" y="2492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e N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er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06864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al blood pressure - the force exerted by the blood on the unit surface area of the artery wal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Hg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moves through the system of blood vessels under the influence of the pressure with which the heart, like a pump, pushes blood into th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highest in the aorta and decreases to the arterioles and capillaries, while in the large veins it is almost equal to zero (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factors that affect the value of arterial blood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al activity of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ntric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se performance is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RESISTANCE to blood flow (P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specially resistance in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A normal amount of blood in the circulatory system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836280"/>
            <a:ext cx="7377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echanical capacity of the he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amount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nerve vasoconstrictor tone of arterio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blood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hange in any factor leads to changes in TA (hypotension / hyperten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6880" y="428400"/>
            <a:ext cx="73771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iastolic and systolic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lood pressure value that occurs in the arteries during systole, when the stroke volume is ejected from the left ventricle into the circulation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over the brachial artery during blood pressure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value of blood pressure in the arteries during diastole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brachial art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crease in diastolic pressure is (almost) always due to an increase in P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57120" y="1143000"/>
          <a:ext cx="8215560" cy="444168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d pressure classification for adults (18 years and ol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973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f arter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l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ygmomanometer with cu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lp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scultation method - Korotkov's tones (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Windows User</cp:lastModifiedBy>
  <dcterms:modified xsi:type="dcterms:W3CDTF">2023-10-20T08:52:42Z</dcterms:modified>
  <cp:revision>59</cp:revision>
  <dc:subject/>
  <dc:title>Slide 1</dc:title>
</cp:coreProperties>
</file>